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6A0-DAD2-4E8C-AC59-544ED172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38B-012B-4AC0-AAA3-9892585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634-B9C9-42D1-9BFE-6ABC2506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F15-01AF-4403-A07B-76493916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1DB-85F4-4FDF-B474-9C0F9FC9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E5A-2745-42CA-AE6C-8E451AB6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570-3BD1-4607-9FB2-C2E1131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B91-8E8B-4CB9-916D-C878367D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981-60E1-43F5-89A9-F2219316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827-EC62-4351-A984-1EEAF80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1E8-B10F-4FB3-83E1-34634FB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9FC-B945-4136-866E-132B5747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68B-166E-40BB-A8C9-0227275E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0600" y="-71280"/>
            <a:ext cx="4762800" cy="700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3:36:42Z</dcterms:created>
  <dc:creator>Patrick J. Mooney</dc:creator>
  <dc:description/>
  <dc:language>en-US</dc:language>
  <cp:lastModifiedBy>Patrick J. Mooney</cp:lastModifiedBy>
  <dcterms:modified xsi:type="dcterms:W3CDTF">2011-05-24T13:38:20Z</dcterms:modified>
  <cp:revision>1</cp:revision>
  <dc:subject/>
  <dc:title>Slide 1</dc:title>
</cp:coreProperties>
</file>